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7.png" ContentType="image/png"/>
  <Override PartName="/ppt/media/image22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3.jpeg" ContentType="image/jpeg"/>
  <Override PartName="/ppt/media/image4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png" ContentType="image/png"/>
  <Override PartName="/ppt/media/image2.png" ContentType="image/png"/>
  <Override PartName="/ppt/media/image25.jpeg" ContentType="image/jpeg"/>
  <Override PartName="/ppt/media/image19.jpeg" ContentType="image/jpeg"/>
  <Override PartName="/ppt/media/image17.png" ContentType="image/png"/>
  <Override PartName="/ppt/media/image14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1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16427-F002-4B2F-994A-713611C1D616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人群中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CMV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感染非常普遍，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60-90%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成人已有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CMV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抗体。初次感染多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岁以下，通常为隐性感染，一般无临床症状。通过人体的分泌物传播，如唾液、鼻涕、奶、尿、粪便、精液、宫颈分泌物。单独的病毒传染性并不是很强，传播需要密切接触。通常通过性传播，也可经产道、输血、器官移植传播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成人感染疱疹尽管比较痛苦，但一般不致命。在新生儿中却不是如此。新生儿疱疹通常由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HHV-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引起。新生儿疱疹一般比较严重，口唇部感染的死亡率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0%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，中枢神经系统感染后死亡率约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80%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。病毒可以通过胎盘屏障感染胎儿，但更多的是在出生时经母亲产道感染。孕妇若感染了疱疹病毒，即使无症状也应告诉医生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27B4CA-A528-4AF5-A8A0-BE8EEB62A12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BD2BFD-1127-45EC-9772-96624FCEE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356CEE-CE75-4D28-AFC0-2F39B7718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75DA4A-BB6B-4FFA-A0F8-75BAA3620CF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19247C-5C31-4754-A824-439281039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690867-340D-431D-9D84-A3FC45975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27AB8D-3C6F-4D2D-9A99-15D9A277E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87CCB9-3CA5-4F87-A379-9AE22AD49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E9974E-A5E3-4387-B533-0D92F8457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558334-5C5C-49F6-9F24-DD1F37AC5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7DA783-F40F-49FA-AFE3-D631D70FF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0427D5-B2A3-4BF3-B5C9-30C74C636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>
              <a:gd name="textAreaLeft" fmla="*/ 0 w 9156960"/>
              <a:gd name="textAreaRight" fmla="*/ 9156960 w 915696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微软雅黑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微软雅黑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微软雅黑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微软雅黑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微软雅黑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微软雅黑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微软雅黑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522B7-694D-48C1-AB86-FAF2CE7B6BA3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微软雅黑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640"/>
              <a:ext cx="9115560" cy="1809000"/>
              <a:chOff x="28440" y="5048640"/>
              <a:chExt cx="9115560" cy="180900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640"/>
                <a:ext cx="9115560" cy="18090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64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5600"/>
                  <a:gd name="textAreaBottom" fmla="*/ 346320 h 34560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000"/>
                  <a:gd name="textAreaBottom" fmla="*/ 360720 h 36000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微软雅黑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微软雅黑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微软雅黑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微软雅黑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微软雅黑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微软雅黑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微软雅黑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16"/>
          <p:cNvSpPr/>
          <p:nvPr/>
        </p:nvSpPr>
        <p:spPr>
          <a:xfrm>
            <a:off x="-1285920" y="3643200"/>
            <a:ext cx="793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方正姚体"/>
                <a:ea typeface="方正姚体"/>
              </a:rPr>
              <a:t>Herpesviridae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TextBox 16"/>
          <p:cNvSpPr/>
          <p:nvPr/>
        </p:nvSpPr>
        <p:spPr>
          <a:xfrm>
            <a:off x="468360" y="2714760"/>
            <a:ext cx="5305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方正姚体"/>
                <a:ea typeface="方正姚体"/>
              </a:rPr>
              <a:t>第</a:t>
            </a:r>
            <a:r>
              <a:rPr b="0" lang="en-US" sz="4400" spc="-1" strike="noStrike">
                <a:solidFill>
                  <a:srgbClr val="ffff00"/>
                </a:solidFill>
                <a:latin typeface="方正姚体"/>
                <a:ea typeface="方正姚体"/>
              </a:rPr>
              <a:t>32</a:t>
            </a:r>
            <a:r>
              <a:rPr b="0" lang="zh-CN" sz="4400" spc="-1" strike="noStrike">
                <a:solidFill>
                  <a:srgbClr val="ffff00"/>
                </a:solidFill>
                <a:latin typeface="方正姚体"/>
                <a:ea typeface="方正姚体"/>
              </a:rPr>
              <a:t>章  疱疹病毒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Text Box 20"/>
          <p:cNvSpPr/>
          <p:nvPr/>
        </p:nvSpPr>
        <p:spPr>
          <a:xfrm>
            <a:off x="2816640" y="5000760"/>
            <a:ext cx="295452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方正姚体"/>
                <a:ea typeface="方正姚体"/>
              </a:rPr>
              <a:t>北京大学医学部病原生物学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方正姚体"/>
                <a:ea typeface="方正姚体"/>
              </a:rPr>
              <a:t>邹清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14" descr="24-10_Varicella-zoster_0_L"/>
          <p:cNvPicPr/>
          <p:nvPr/>
        </p:nvPicPr>
        <p:blipFill>
          <a:blip r:embed="rId1"/>
          <a:stretch/>
        </p:blipFill>
        <p:spPr>
          <a:xfrm>
            <a:off x="1116000" y="189000"/>
            <a:ext cx="678168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4"/>
          <p:cNvSpPr/>
          <p:nvPr/>
        </p:nvSpPr>
        <p:spPr>
          <a:xfrm>
            <a:off x="3492360" y="5589720"/>
            <a:ext cx="2374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儿童水痘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8" name="Picture 5" descr=""/>
          <p:cNvPicPr/>
          <p:nvPr/>
        </p:nvPicPr>
        <p:blipFill>
          <a:blip r:embed="rId1"/>
          <a:srcRect l="16405" t="17204" r="14844" b="10751"/>
          <a:stretch/>
        </p:blipFill>
        <p:spPr>
          <a:xfrm>
            <a:off x="4788000" y="765000"/>
            <a:ext cx="3556080" cy="46087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7" descr="24-09_Chickenpox_L"/>
          <p:cNvPicPr/>
          <p:nvPr/>
        </p:nvPicPr>
        <p:blipFill>
          <a:blip r:embed="rId2"/>
          <a:srcRect l="2769" t="1637" r="2769" b="5011"/>
          <a:stretch/>
        </p:blipFill>
        <p:spPr>
          <a:xfrm>
            <a:off x="1116000" y="692280"/>
            <a:ext cx="332100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4"/>
          <p:cNvSpPr/>
          <p:nvPr/>
        </p:nvSpPr>
        <p:spPr>
          <a:xfrm>
            <a:off x="3286080" y="5072040"/>
            <a:ext cx="33847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腰部带状疱疹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1" name="Picture 5" descr="带状疱疹3"/>
          <p:cNvPicPr/>
          <p:nvPr/>
        </p:nvPicPr>
        <p:blipFill>
          <a:blip r:embed="rId1"/>
          <a:srcRect l="15824" t="0" r="15155" b="19480"/>
          <a:stretch/>
        </p:blipFill>
        <p:spPr>
          <a:xfrm>
            <a:off x="395280" y="1268280"/>
            <a:ext cx="4057560" cy="35640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6" descr=""/>
          <p:cNvPicPr/>
          <p:nvPr/>
        </p:nvPicPr>
        <p:blipFill>
          <a:blip r:embed="rId2"/>
          <a:stretch/>
        </p:blipFill>
        <p:spPr>
          <a:xfrm>
            <a:off x="4716360" y="1268280"/>
            <a:ext cx="3816360" cy="35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928440" y="1214280"/>
            <a:ext cx="705636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免疫性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患水痘后机体可产生持久的特异性细胞免疫和体液免疫，极少再发水痘；但不能阻止潜伏病毒被激活而发生带状疱疹。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微生物学检查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水痘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带状疱疹的临床症状典型，一般不需做微生物学诊断。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防治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VZV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减毒活疫苗预防水痘感染和传播有良好效果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治疗可用阿昔洛韦、阿糖腺苷和高剂量干扰素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928440" y="2928960"/>
            <a:ext cx="3470040" cy="27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形态结构与疱疹病毒相似。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主要侵犯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淋巴细胞。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pic>
        <p:nvPicPr>
          <p:cNvPr id="155" name="Picture 4" descr="200305220013_11087"/>
          <p:cNvPicPr/>
          <p:nvPr/>
        </p:nvPicPr>
        <p:blipFill>
          <a:blip r:embed="rId1"/>
          <a:srcRect l="15923" t="0" r="21592" b="10755"/>
          <a:stretch/>
        </p:blipFill>
        <p:spPr>
          <a:xfrm>
            <a:off x="5072040" y="3071880"/>
            <a:ext cx="3532320" cy="282420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4"/>
          <p:cNvSpPr/>
          <p:nvPr/>
        </p:nvSpPr>
        <p:spPr>
          <a:xfrm>
            <a:off x="1071720" y="1285920"/>
            <a:ext cx="7121520" cy="12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EB</a:t>
            </a: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病毒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Epstein-Barr Virus</a:t>
            </a: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，</a:t>
            </a:r>
            <a:r>
              <a:rPr b="1" lang="en-US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EBV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28440" y="856800"/>
            <a:ext cx="7273800" cy="93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致病性</a:t>
            </a: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99720" y="1856880"/>
            <a:ext cx="7201080" cy="48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主要通过唾液传播，经常在共用水杯或接吻时（“</a:t>
            </a:r>
            <a:r>
              <a:rPr b="1" lang="en-US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kissing disease”</a:t>
            </a:r>
            <a:r>
              <a:rPr b="1" lang="zh-CN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是传染性单核细胞增多症的常用名称）；偶见经输血传染。 </a:t>
            </a:r>
            <a:endParaRPr b="1" lang="en-US" sz="22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口咽部上皮细胞内增殖，然后感染</a:t>
            </a:r>
            <a:r>
              <a:rPr b="1" lang="en-US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B</a:t>
            </a:r>
            <a:r>
              <a:rPr b="1" lang="zh-CN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淋巴细胞</a:t>
            </a:r>
            <a:endParaRPr b="1" lang="en-US" sz="22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进入血循环可造成全身性感染</a:t>
            </a:r>
            <a:endParaRPr b="1" lang="en-US" sz="22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可长期潜伏</a:t>
            </a:r>
            <a:endParaRPr b="1" lang="en-US" sz="22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传染性单核细胞增多症是体液和细胞免疫“内战”的结果。细胞毒性</a:t>
            </a:r>
            <a:r>
              <a:rPr b="1" lang="en-US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T</a:t>
            </a:r>
            <a:r>
              <a:rPr b="1" lang="zh-CN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细胞杀死了感染的</a:t>
            </a:r>
            <a:r>
              <a:rPr b="1" lang="en-US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B</a:t>
            </a:r>
            <a:r>
              <a:rPr b="1" lang="zh-CN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淋巴细胞。 </a:t>
            </a:r>
            <a:endParaRPr b="1" lang="en-US" sz="22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42640" y="856800"/>
            <a:ext cx="7273800" cy="93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所致疾病</a:t>
            </a: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357200" y="1928520"/>
            <a:ext cx="712944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传染性单核细胞增多症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非洲儿童淋巴瘤（即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Burkitt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淋巴瘤）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鼻咽癌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pic>
        <p:nvPicPr>
          <p:cNvPr id="162" name="Picture 4" descr="24-13_EBV-Diseases_3_U"/>
          <p:cNvPicPr/>
          <p:nvPr/>
        </p:nvPicPr>
        <p:blipFill>
          <a:blip r:embed="rId1"/>
          <a:srcRect l="1377" t="495" r="11432" b="22992"/>
          <a:stretch/>
        </p:blipFill>
        <p:spPr>
          <a:xfrm>
            <a:off x="6588000" y="3645000"/>
            <a:ext cx="1871640" cy="244944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5" descr="24-13_EBV-Diseases_4_U"/>
          <p:cNvPicPr/>
          <p:nvPr/>
        </p:nvPicPr>
        <p:blipFill>
          <a:blip r:embed="rId2"/>
          <a:srcRect l="1253" t="1631" r="1253" b="12869"/>
          <a:stretch/>
        </p:blipFill>
        <p:spPr>
          <a:xfrm>
            <a:off x="4356000" y="3716280"/>
            <a:ext cx="1876680" cy="23767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6" descr="24-13_EBV-Diseases_5_U"/>
          <p:cNvPicPr/>
          <p:nvPr/>
        </p:nvPicPr>
        <p:blipFill>
          <a:blip r:embed="rId3"/>
          <a:srcRect l="1228" t="1642" r="2522" b="18497"/>
          <a:stretch/>
        </p:blipFill>
        <p:spPr>
          <a:xfrm>
            <a:off x="1835280" y="4005360"/>
            <a:ext cx="2089080" cy="203184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7"/>
          <p:cNvSpPr/>
          <p:nvPr/>
        </p:nvSpPr>
        <p:spPr>
          <a:xfrm>
            <a:off x="2243160" y="6093000"/>
            <a:ext cx="140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传染性单核细胞增多症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Text Box 8"/>
          <p:cNvSpPr/>
          <p:nvPr/>
        </p:nvSpPr>
        <p:spPr>
          <a:xfrm>
            <a:off x="4982760" y="6093000"/>
            <a:ext cx="54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无症状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Text Box 9"/>
          <p:cNvSpPr/>
          <p:nvPr/>
        </p:nvSpPr>
        <p:spPr>
          <a:xfrm>
            <a:off x="7049520" y="609300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伯基特淋巴瘤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85520" y="999720"/>
            <a:ext cx="7273800" cy="93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微生物学检查</a:t>
            </a: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428480" y="2071800"/>
            <a:ext cx="680076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EBV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分离培养困难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可用核酸杂交和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CR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等方法检测细胞内 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EBV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基因组及其表达产物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血清学诊断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EBV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特异性抗体的检测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85520" y="928800"/>
            <a:ext cx="72738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防治原则</a:t>
            </a: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285920" y="2071800"/>
            <a:ext cx="685152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应注意减少由唾液、飞沫、血制品传播病毒的机会。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国用基因工程方法构建的同时表达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EBV gp320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和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BsAg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疫苗，重点使用在鼻咽癌高发区。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gp320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膜蛋白疫苗，正在英国大学生患者中作小规模接种，以期观察该疫苗是否能降低传染性单核细胞增多症的发病率。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642600" y="2356920"/>
            <a:ext cx="525636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感染的细胞肿大，并具有巨大的核内包涵体，故名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CMV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具有典型的疱疹病毒形态，其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DNA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结构也与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SV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相似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病毒感染的宿主范围和细胞范围均狭窄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有高度的种属特异性，人巨细胞病毒（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CMV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只能感染人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核内包涵体呈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“猫头鹰眼”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状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</p:txBody>
      </p:sp>
      <p:pic>
        <p:nvPicPr>
          <p:cNvPr id="173" name="Picture 6" descr="24-14_Cytomegalovirus_L"/>
          <p:cNvPicPr/>
          <p:nvPr/>
        </p:nvPicPr>
        <p:blipFill>
          <a:blip r:embed="rId1"/>
          <a:srcRect l="40404" t="0" r="23828" b="56130"/>
          <a:stretch/>
        </p:blipFill>
        <p:spPr>
          <a:xfrm>
            <a:off x="6000840" y="3071880"/>
            <a:ext cx="2952720" cy="280836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4"/>
          <p:cNvSpPr/>
          <p:nvPr/>
        </p:nvSpPr>
        <p:spPr>
          <a:xfrm>
            <a:off x="1643040" y="1000080"/>
            <a:ext cx="5977080" cy="12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巨细胞病毒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Cytomegalovirus</a:t>
            </a: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，</a:t>
            </a:r>
            <a:r>
              <a:rPr b="1" lang="en-US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CMV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0040" y="128592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疱疹病毒的共同特点</a:t>
            </a: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571680" y="2857680"/>
            <a:ext cx="4679640" cy="23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50000"/>
              </a:lnSpc>
              <a:spcBef>
                <a:spcPts val="1199"/>
              </a:spcBef>
              <a:buClr>
                <a:srgbClr val="ff0000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病毒颗粒呈球形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199"/>
              </a:spcBef>
              <a:buClr>
                <a:srgbClr val="ff0000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基因组为双股线性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DNA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199"/>
              </a:spcBef>
              <a:buClr>
                <a:srgbClr val="ff0000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有包膜，包膜上有小刺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6" name="Picture 5" descr="hsv-3bc"/>
          <p:cNvPicPr/>
          <p:nvPr/>
        </p:nvPicPr>
        <p:blipFill>
          <a:blip r:embed="rId1"/>
          <a:srcRect l="0" t="2618" r="0" b="4768"/>
          <a:stretch/>
        </p:blipFill>
        <p:spPr>
          <a:xfrm>
            <a:off x="5076720" y="2781360"/>
            <a:ext cx="3814920" cy="27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2"/>
          <p:cNvSpPr/>
          <p:nvPr/>
        </p:nvSpPr>
        <p:spPr>
          <a:xfrm>
            <a:off x="928800" y="2071800"/>
            <a:ext cx="7553160" cy="24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1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微软雅黑"/>
                <a:ea typeface="微软雅黑"/>
              </a:rPr>
              <a:t>先天性感染：</a:t>
            </a:r>
            <a:r>
              <a:rPr b="1" lang="zh-CN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经胎盘感染，可致巨细胞包涵体病，先天畸形，甚至流产或死胎 。 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微软雅黑"/>
                <a:ea typeface="微软雅黑"/>
              </a:rPr>
              <a:t>围产期感染：</a:t>
            </a:r>
            <a:r>
              <a:rPr b="1" lang="zh-CN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经产道或哺乳感染，症状轻微或无临床症状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微软雅黑"/>
                <a:ea typeface="微软雅黑"/>
              </a:rPr>
              <a:t>儿童及成人感染：</a:t>
            </a:r>
            <a:r>
              <a:rPr b="1" lang="zh-CN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直接密切接触、性接触及输血感染，引起单核细胞增多症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微软雅黑"/>
                <a:ea typeface="微软雅黑"/>
              </a:rPr>
              <a:t>细胞转化和可能致癌作用：</a:t>
            </a:r>
            <a:r>
              <a:rPr b="1" lang="zh-CN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宫颈癌，</a:t>
            </a:r>
            <a:r>
              <a:rPr b="1" lang="en-US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Kaposi</a:t>
            </a:r>
            <a:r>
              <a:rPr b="1" lang="zh-CN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肉瘤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Rectangle 3"/>
          <p:cNvSpPr/>
          <p:nvPr/>
        </p:nvSpPr>
        <p:spPr>
          <a:xfrm>
            <a:off x="2286000" y="1071720"/>
            <a:ext cx="45370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CMV</a:t>
            </a:r>
            <a:r>
              <a:rPr b="1" lang="zh-CN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常见感染类型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57120" y="713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微生物学检查</a:t>
            </a: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071360" y="1857240"/>
            <a:ext cx="742932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细胞学检查：尿标本经离心后取沉渣涂片镜检，观察巨大细胞及细胞核内包涵体。  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病毒分离：病人分泌物接种人胚成纤维细胞，观察细胞病变。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抗原检测：应用特异性单克隆抗体直接检测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CMV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晚期结构抗原（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65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，可对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CMV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活动性感染作早期快速诊断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病毒的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DNA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检测：核酸杂交及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CR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法检测病毒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DNA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血清学检测：应用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ELISA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法检测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CMV IgM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99720" y="928800"/>
            <a:ext cx="72738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防治原则</a:t>
            </a: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714240" y="2357280"/>
            <a:ext cx="7772400" cy="33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切断传播途径，减少传播机会。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丙氧鸟苷：抑制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DNA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合成，治疗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CMV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间质性肺炎、视网膜炎。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鳞甲酸：抑制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CMV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DNA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聚合酶活性，减轻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AIDS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病人和移植受者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CMV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感染症状。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疫苗：有减毒活疫苗问世，但尚未大范围使用。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56760" y="1428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小 结</a:t>
            </a: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999720" y="2500200"/>
            <a:ext cx="7929720" cy="25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纯疱疹病毒、水痘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带状疱疹病毒的潜伏感染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EB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病毒的致病性及所致疾病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巨细胞病毒的感染类型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5"/>
          <p:cNvSpPr/>
          <p:nvPr/>
        </p:nvSpPr>
        <p:spPr>
          <a:xfrm>
            <a:off x="4643280" y="3286080"/>
            <a:ext cx="4143600" cy="19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20000"/>
              </a:lnSpc>
              <a:spcBef>
                <a:spcPts val="1199"/>
              </a:spcBef>
              <a:buClr>
                <a:srgbClr val="ff3300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典型疱疹病毒形态特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199"/>
              </a:spcBef>
              <a:buClr>
                <a:srgbClr val="ff3300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双股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有包膜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199"/>
              </a:spcBef>
              <a:buClr>
                <a:srgbClr val="ff3300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HSV-1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HSV-2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两个血清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8" name="Picture 12" descr="hsvimg01z"/>
          <p:cNvPicPr/>
          <p:nvPr/>
        </p:nvPicPr>
        <p:blipFill>
          <a:blip r:embed="rId1"/>
          <a:stretch/>
        </p:blipFill>
        <p:spPr>
          <a:xfrm>
            <a:off x="1285920" y="2928960"/>
            <a:ext cx="3105000" cy="324468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120" name="Rectangle 2"/>
          <p:cNvSpPr/>
          <p:nvPr/>
        </p:nvSpPr>
        <p:spPr>
          <a:xfrm>
            <a:off x="500040" y="1000080"/>
            <a:ext cx="8496360" cy="14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单纯疱疹病毒</a:t>
            </a:r>
            <a:br>
              <a:rPr sz="3600"/>
            </a:br>
            <a:r>
              <a:rPr b="1" lang="zh-CN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（</a:t>
            </a:r>
            <a:r>
              <a:rPr b="1" lang="en-US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Herpes Simplex Virus, HSV</a:t>
            </a:r>
            <a:r>
              <a:rPr b="1" lang="zh-CN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4"/>
          <p:cNvSpPr/>
          <p:nvPr/>
        </p:nvSpPr>
        <p:spPr>
          <a:xfrm>
            <a:off x="3286080" y="1071720"/>
            <a:ext cx="31687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原发感染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357120" y="1928880"/>
            <a:ext cx="84250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HSV-1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主要引起龈口炎、疱疹性角膜结膜炎、疱疹性脑炎、皮肤疱疹性湿疹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324000" y="4221000"/>
            <a:ext cx="4032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HSV-2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主要引起生殖器疱疹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4" name="Picture 8" descr="疱疹性齿龈炎"/>
          <p:cNvPicPr/>
          <p:nvPr/>
        </p:nvPicPr>
        <p:blipFill>
          <a:blip r:embed="rId1"/>
          <a:stretch/>
        </p:blipFill>
        <p:spPr>
          <a:xfrm>
            <a:off x="611280" y="2492280"/>
            <a:ext cx="2592360" cy="14702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1" descr="24-06_OralHerpes_L"/>
          <p:cNvPicPr/>
          <p:nvPr/>
        </p:nvPicPr>
        <p:blipFill>
          <a:blip r:embed="rId2"/>
          <a:srcRect l="1064" t="960" r="1064" b="5507"/>
          <a:stretch/>
        </p:blipFill>
        <p:spPr>
          <a:xfrm>
            <a:off x="3492360" y="2492280"/>
            <a:ext cx="2087640" cy="14749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5" descr="24-07_GenitalHerpes_L"/>
          <p:cNvPicPr/>
          <p:nvPr/>
        </p:nvPicPr>
        <p:blipFill>
          <a:blip r:embed="rId3"/>
          <a:srcRect l="1061" t="2069" r="1061" b="5665"/>
          <a:stretch/>
        </p:blipFill>
        <p:spPr>
          <a:xfrm>
            <a:off x="3276720" y="4724280"/>
            <a:ext cx="2592360" cy="17193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6" descr="唇疱疹"/>
          <p:cNvPicPr/>
          <p:nvPr/>
        </p:nvPicPr>
        <p:blipFill>
          <a:blip r:embed="rId4"/>
          <a:srcRect l="0" t="0" r="36685" b="44216"/>
          <a:stretch/>
        </p:blipFill>
        <p:spPr>
          <a:xfrm>
            <a:off x="5867280" y="2492280"/>
            <a:ext cx="2448000" cy="14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4"/>
          <p:cNvSpPr/>
          <p:nvPr/>
        </p:nvSpPr>
        <p:spPr>
          <a:xfrm>
            <a:off x="2643120" y="1571760"/>
            <a:ext cx="37432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潜伏与复发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928800" y="2428920"/>
            <a:ext cx="4465440" cy="24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HSV-1</a:t>
            </a:r>
            <a:r>
              <a:rPr b="1" lang="zh-CN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：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病毒潜伏在</a:t>
            </a:r>
            <a:r>
              <a:rPr b="1" lang="zh-CN" sz="2600" spc="-1" strike="noStrike">
                <a:solidFill>
                  <a:srgbClr val="ff3300"/>
                </a:solidFill>
                <a:latin typeface="微软雅黑"/>
                <a:ea typeface="微软雅黑"/>
              </a:rPr>
              <a:t>三叉神经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HSV-2</a:t>
            </a:r>
            <a:r>
              <a:rPr b="1" lang="zh-CN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：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病毒潜伏在</a:t>
            </a:r>
            <a:r>
              <a:rPr b="1" lang="zh-CN" sz="2600" spc="-1" strike="noStrike">
                <a:solidFill>
                  <a:srgbClr val="ff3300"/>
                </a:solidFill>
                <a:latin typeface="微软雅黑"/>
                <a:ea typeface="微软雅黑"/>
              </a:rPr>
              <a:t>骶神经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机体受到紫外线、发热、创伤、使用肾上腺素等影响后，约</a:t>
            </a:r>
            <a:r>
              <a:rPr b="1" lang="en-US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80%</a:t>
            </a:r>
            <a:r>
              <a:rPr b="1" lang="zh-CN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病人会复发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Text Box 6"/>
          <p:cNvSpPr/>
          <p:nvPr/>
        </p:nvSpPr>
        <p:spPr>
          <a:xfrm>
            <a:off x="4535640" y="1989000"/>
            <a:ext cx="3565440" cy="11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1" name="Picture 7" descr="latency"/>
          <p:cNvPicPr/>
          <p:nvPr/>
        </p:nvPicPr>
        <p:blipFill>
          <a:blip r:embed="rId1"/>
          <a:stretch/>
        </p:blipFill>
        <p:spPr>
          <a:xfrm>
            <a:off x="5148360" y="1928880"/>
            <a:ext cx="3995640" cy="2097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9" descr="24-08a_OcularHerpes_L"/>
          <p:cNvPicPr/>
          <p:nvPr/>
        </p:nvPicPr>
        <p:blipFill>
          <a:blip r:embed="rId2"/>
          <a:srcRect l="1061" t="2110" r="1061" b="14726"/>
          <a:stretch/>
        </p:blipFill>
        <p:spPr>
          <a:xfrm>
            <a:off x="5857920" y="4357800"/>
            <a:ext cx="2592360" cy="147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4"/>
          <p:cNvSpPr/>
          <p:nvPr/>
        </p:nvSpPr>
        <p:spPr>
          <a:xfrm>
            <a:off x="1928880" y="1214280"/>
            <a:ext cx="34560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先天性感染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4" name="Picture 5" descr="eczma"/>
          <p:cNvPicPr/>
          <p:nvPr/>
        </p:nvPicPr>
        <p:blipFill>
          <a:blip r:embed="rId1"/>
          <a:stretch/>
        </p:blipFill>
        <p:spPr>
          <a:xfrm>
            <a:off x="5435640" y="1773360"/>
            <a:ext cx="2903400" cy="217800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6"/>
          <p:cNvSpPr/>
          <p:nvPr/>
        </p:nvSpPr>
        <p:spPr>
          <a:xfrm>
            <a:off x="755640" y="2060640"/>
            <a:ext cx="4321080" cy="307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SV-1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SV-2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分娩时均可通过产道感染新生儿，以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SV-2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多见。引起新生儿疱疹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新生儿疱疹一般比较严重，口唇部感染的死亡率为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30%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中枢神经系统感染后死亡率约为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80%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胚胎期感染可引起先天畸形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6" name="Picture 8" descr="新生儿疱疹"/>
          <p:cNvPicPr/>
          <p:nvPr/>
        </p:nvPicPr>
        <p:blipFill>
          <a:blip r:embed="rId2"/>
          <a:srcRect l="0" t="0" r="11518" b="20092"/>
          <a:stretch/>
        </p:blipFill>
        <p:spPr>
          <a:xfrm>
            <a:off x="5364000" y="4221000"/>
            <a:ext cx="3024360" cy="18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42640" y="856800"/>
            <a:ext cx="7273800" cy="93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防治原则</a:t>
            </a: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85880" y="1714320"/>
            <a:ext cx="7488000" cy="489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微软雅黑"/>
                <a:ea typeface="微软雅黑"/>
              </a:rPr>
              <a:t>预防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微软雅黑"/>
                <a:ea typeface="微软雅黑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避免同患者接触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剖宫产预防新生儿感染，给新生儿注射丙种球蛋白可作为应急预防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SV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有致癌可能性，减毒活疫苗和死疫苗不宜用于人体，包膜糖蛋白（提纯的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gG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gD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亚单位疫苗尚在研制中。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微软雅黑"/>
                <a:ea typeface="微软雅黑"/>
              </a:rPr>
              <a:t>治疗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国内用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SV gC gD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克隆抗体制成滴眼液，用于治疗疱疹性角膜炎，取得显著疗效。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阿昔洛韦（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ACV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对疱疹病毒有抑制作用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1071360" y="2500200"/>
            <a:ext cx="7056360" cy="23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基本性状与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SV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相似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只有一个血清型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一般实验动物和鸡胚中均不生长，只在猴或人成纤维细胞中增殖，病变缓慢。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可产生核内嗜酸性包涵体和形成多核巨细胞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</p:txBody>
      </p:sp>
      <p:pic>
        <p:nvPicPr>
          <p:cNvPr id="140" name="Picture 4" descr="多核巨细胞"/>
          <p:cNvPicPr/>
          <p:nvPr/>
        </p:nvPicPr>
        <p:blipFill>
          <a:blip r:embed="rId1"/>
          <a:stretch/>
        </p:blipFill>
        <p:spPr>
          <a:xfrm>
            <a:off x="2643120" y="4500720"/>
            <a:ext cx="3721320" cy="185724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287280" y="1071720"/>
            <a:ext cx="8856720" cy="12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水痘</a:t>
            </a:r>
            <a:r>
              <a:rPr b="1" lang="en-US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–</a:t>
            </a: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带状疱疹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（</a:t>
            </a:r>
            <a:r>
              <a:rPr b="1" lang="en-US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Varicella–zosterVirus VZV</a:t>
            </a: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2"/>
          <p:cNvSpPr/>
          <p:nvPr/>
        </p:nvSpPr>
        <p:spPr>
          <a:xfrm>
            <a:off x="1000080" y="1643040"/>
            <a:ext cx="6985080" cy="23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传染源：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水痘急性期患者，带状疱疹患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传播途径：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呼吸道飞沫传播或接触传播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易感人群：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水痘多见于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3~9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岁的儿童，好发于冬春季，高度传染；带状疱疹只见于患过水痘的成年人和老年人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1000080" y="4000680"/>
            <a:ext cx="6985080" cy="16790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微软雅黑"/>
                <a:ea typeface="微软雅黑"/>
              </a:rPr>
              <a:t>临床特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水痘：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皮疹向心性分布，躯干比面部和四肢多，消退后不留疤痕，病情一般较轻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带状疱疹：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皮肤上沿感觉神经的通路发生串联水疱，形似带状，多见于胸部、腹部和面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3714840" y="928800"/>
            <a:ext cx="251928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致病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微软用户</cp:lastModifiedBy>
  <dcterms:modified xsi:type="dcterms:W3CDTF">2015-08-26T07:39:58Z</dcterms:modified>
  <cp:revision>86</cp:revision>
  <dc:subject/>
  <dc:title>内科护理学</dc:title>
</cp:coreProperties>
</file>